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28.png" ContentType="image/png"/>
  <Override PartName="/ppt/media/image10.jpeg" ContentType="image/jpeg"/>
  <Override PartName="/ppt/media/image29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dt" idx="52"/>
          </p:nvPr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00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00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53"/>
          </p:nvPr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54D6D4-E416-4F44-8DEC-D16399262E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368530E4-04CB-4F16-A7A6-443B6F0681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E5F13B61-E4BE-46F8-B0FA-B7E99E373A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956F2B28-EC33-401D-AF0C-747D3FAA9B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20FAFD6B-693A-44F7-8E47-D8CED0123B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01479294-6B3E-4D54-9D81-9F7BF87A7E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386C0AF1-7218-43CD-A11B-FFF7713EC4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DCC30138-7AF5-47B6-B16D-2FE1BE0809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8D0D1A10-7584-4047-872E-23C9F13BC6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7"/>
          <p:cNvSpPr txBox="1"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4B6EEFF6-5E8D-42DC-B677-FBFEF1EB2D16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 txBox="1"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09AA7590-5E39-4848-9689-ED1913899B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86E-4826-40E0-AF75-D34C60F8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9A4-1063-41FA-B4B3-CA9D1C78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EB13E-A77D-4C4D-AE4F-393F72A1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BBCFA-C62B-4A80-829E-6A9DBC1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C4CB0-29E6-4D27-B05B-4C00234D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DFBBF-CD56-421F-B956-CBA4AF1B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24CB6-6EE2-4FAA-933A-42DE3E88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37094-3C39-47E7-96ED-79233DC1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54937-7BB0-4758-9561-0CD9E722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1374D-8060-41B7-A405-50C85646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E11C4-0AC2-4060-A28D-B5D55BDB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7EA91-372E-4128-81D9-F0A3F213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57F-D523-4B49-876A-B5F7A3A1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FC17D-159C-40C9-B700-CB31B6BE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1071B-E1D7-4C89-822E-6EC805CB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3A6CD-08D0-4B64-A878-0E3073C2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BE55F-8EBE-4C2F-9D70-1D0CF5F8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A6375-A6F8-42DD-A5E1-6A02C3AB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DBC6B-07F1-4661-824C-8AF5528C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107B9-BA68-4417-9C02-15B4B01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B9553-FE28-47D3-9A10-32F0D41C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F6264-7426-47FC-AEDF-FA316BAC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3EB71-6913-4131-9828-AD117471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CC6-9ED4-4E32-88FC-552BB008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E1CAC-3DA4-4C4C-8E27-C0BD7BBE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97679-A14C-4759-A3B1-20EE4608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482E4-E83D-45DB-B486-95B31A06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60C66-7FFD-47C4-90BD-294D688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B9D66-6F4A-4168-9AB9-EDFBD785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7B11C-2786-4763-BD16-9C516621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8DC91-A89E-4299-8BF8-40CB9198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4A38A-CC10-46A4-96FD-829005DC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BD248-F8B3-4919-8CF4-E31746D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ED320-3B89-4CD5-84E2-BD22C48A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EF7B-92F2-4EB8-AF2A-6DBB000F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BB8AD-9501-4252-A821-09FD77DC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FC215-4F05-4A9B-B46E-32D1DD50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03E99-3332-4A8E-A3D2-A4D915E5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FAEAB-4A0B-47BF-A1A9-7F5612AF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F69C1-4731-4B60-992C-04831FE8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C5C8F-75DE-4B84-8ADF-9C6C2213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56B41-5717-44ED-A20B-571508A8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0A947-5B09-4A88-B375-A6F1A5B6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551DB-6B15-458D-9A1A-6FBFD4CE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A8A04-40F3-4EBC-AAEE-5AD5C104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2207-24C8-4350-9898-D1D1D781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2FE06-5B46-4D78-B7EB-B59AACA9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47FCA-D534-4FE0-8C55-255FD9FA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78536-D593-4AC7-9EB8-CD1F9BB2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B54EB-7857-41C5-828D-23D08C6B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EB145-FC2C-4B99-8DB0-BDEA3D29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565C3-AF55-4959-A152-F35EFCDD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0A180-ECAD-4006-9894-936598E7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121D9-8238-4E9C-9F97-FDE9D313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1E12C-97CF-467D-91E2-71B6E4E1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7128E-4149-4602-87E6-1C4FE2AB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3D98-2620-4811-9E09-9FBFAD02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5BACE-D98E-4DA5-B813-2CCA62F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A4BD2-B0D9-470D-BC5D-DDD3B989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3F56E-A355-49D5-9DD0-88C11B92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F4627-0C25-4961-8572-4F94783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A52B4-243B-40ED-BBBA-FDFA00A5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03495-43C5-4E7A-B78C-54E554E2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29B48-058F-4321-A63D-DFA1CD7F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5791C-4E6C-4EE7-9FD6-569D4E2B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CB2D2-13F4-460C-A4FF-B4465448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95063-D011-4D92-84CB-F8E97F6B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733E-C46A-462C-92C9-B4F6C139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AFB14-A6EE-4DD1-A13F-B45A9D41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2F49F-E910-43B2-BE00-B71ECD93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7B484-7142-45C8-A325-AF628F58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8B20B-2AA8-42AC-90CF-164288AC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4D601-1A57-4BB2-BD32-46499ABD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BEEA8-2458-477C-A91E-3D8FD425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E4602-2BCB-439A-9184-34207ED5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02879-8914-4D12-9573-B5026A0C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6D945-4704-4AB3-9822-F2578A78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E3176-3B78-4BC0-A02D-C4C9607D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7A99-9237-49C7-A652-815C02D6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925ED-86E8-4567-8BD8-BBEDECD2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01876-FFB9-4CC7-9353-E2270BF1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AC312-79E9-4562-A86A-11DB0EDF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553C6-307E-4CFD-852F-FE5C5F88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05C88-26F1-4711-8F17-C9F32602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50DA0-697D-4703-9F91-78AE6B41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C0B7C-C3B4-401F-9592-BA54A7FE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DD20B-FEC2-4825-9473-38F73CC6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4C477-A112-47BB-ABDD-8159FF71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17C9A-8F37-4E33-8C20-BDEEE18A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DE0A-447A-4681-9E0A-F22D8B8A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806A7-C213-42BB-9751-6672EF0B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D887D-90BF-4BC5-88DA-27EB55E3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168BA4-6F21-46D5-9DAA-5C6E1301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6388F-E1E5-4B37-A451-B9D8B562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92394-4274-4C6A-A5B1-4509F968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53A18-D7AE-4AF0-88E4-E2E5CDFE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3257A-D528-4598-99C6-695B5281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36311-734D-4CB9-BED1-856E66F0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BC0E2-4BFA-4D85-9D76-2DAE8B53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5B798-0220-4B5E-827A-AB8D9DCC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6DA4-7C1E-4766-9351-41AAA88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A012D-7565-454A-BD82-F547888D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37F3C-8445-4DB5-96B1-CC7DA0A1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1AA84-3386-4EAA-B05B-57F7EB81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958D42-683A-4892-9A7E-6502A058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886916-64C8-4FF6-8427-CD296B92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2E369-11E4-451E-AB7A-35ABA65B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788ED-B320-45DD-8C25-47F46766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4AF5F-86C3-4451-B877-912603BC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B7C823-8679-45D5-9E4C-6A59766E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5DDE9-C4E4-47D7-8341-CBB44557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1FD-3E27-4F61-A357-68E0DB9E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04C9-67D6-4014-BABB-87908A07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68D2D7-3E59-4AAB-BF6E-69C21F7C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41AAB-43F9-49FC-B7EA-EFF4D84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AEF805-C656-49DF-804F-69CFCC5B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C34A77-FFC1-45C5-B0D5-5D31F108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5AF0EA-B683-46CD-AFA0-BD1E3D10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2267-C33B-499E-A259-4A8805BC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B5B0-D988-449B-9D40-915C5B0B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C3B2-1FBD-4A6E-AE7E-8A18A061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1159-04DB-4928-80B4-DA9BE88B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1AF9-B338-442F-8C1E-D56DABFA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733E-562B-4EBB-A17E-A91942D2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7DA0-732F-406F-AD0C-47FA6BE8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61E1-91D3-452F-8816-97A3D127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E283-1FC3-4611-A1EE-9E213E9D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849-C2D4-45BC-950C-87E7847B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A8CF-3577-4982-9904-7F866E76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BD87-E401-4F3B-916B-70FA9EEA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E8A6F-EE29-47CE-80C0-1104C94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6242-619C-436E-99F9-ADDBE327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DB41-3642-425C-9872-56E83EAC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CF646-6E74-4AD2-AF1E-222F0BD6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5681-4660-4858-95B7-E3730EC4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2BD8-9271-46B3-AF92-A2976063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B1655-8AF7-4CAF-A56E-5C6E8BAD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0AFA-273A-4C6F-B3D0-039F53AB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A28-A139-4CB6-85D0-EE91567F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91446-C9BB-4750-9484-7012DF79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7D1C2-2BDD-437E-8059-E9335519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7D2B-65C7-4C7C-A66F-DD953723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F0F8B-47B8-4F91-9E3A-CA2CD3AD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F331-10EE-41A6-B02E-CC8CC33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89BA-4FCB-4F6B-8E16-25616D8C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90CA4-6C4C-4C1B-81A0-636A00AB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97D1F-B6EC-404D-8996-4A6CB6ED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A76D-D00C-4F22-91A0-D5348910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CF4C-415F-476F-B14E-B6BCAE0F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F81-3F04-4C95-B491-2685A0D1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1659D-1108-4D1C-88B1-C4C15A4C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81A0D-E3B4-43FE-A4C6-43E379E4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16ABB-1904-463B-B50F-C1D85004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633D4-A233-439C-910D-99FA40F8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A6BD9-FDBA-41F4-9C20-CEC5156E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DBF21-0D07-4AA0-99D6-70A578FE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86F14-D140-43AB-9CFE-7E5291E8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736F5-1798-4EEC-8F8E-C5C91536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725F7-1D43-46B1-A133-2F2E8AC4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74475-D845-4D8C-86AC-431B8E92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D0E-B428-4DEA-B519-C717E232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CBFF3-92AD-4A63-BD0E-68240C10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873BC-B228-42F6-BE35-28AD0067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4A014-6CBF-420D-A388-B0A732B7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5764B-DC59-43C5-919C-782A601F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0EA7B-B063-49F0-BB20-A92EDDC8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F88AD-B8F3-4F38-B305-9885DB24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4AA9D-F258-4B32-AFFF-8ED9551F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3A703-51C5-49D1-B13A-576D66C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0E04A-6531-4A69-91BD-44D4CB7A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1FFA5-A097-406A-9EBA-CC3806D8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7A6-7E58-4807-9749-0E6E1A6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8A4E-B547-44B3-92D3-3CA1B49B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AEE43-1B98-42CA-9BAD-099AF2EB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6E97B-D3AC-4C5F-8F9E-77A375CF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6F02C-DB91-418B-82AE-C9AC691F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0835C-F676-410E-AEC2-FFB96A21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B63EA-B633-4A26-B397-27420B42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FAFE2-EEBA-4E14-B4D9-0052B3ED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96ADF-60E7-4094-A616-3A48E6A9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90B0F-EFE5-42DC-B8C1-D13987F5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18FAE-1589-43DD-99C8-8B325DBE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C78-F6E5-4403-80F4-767426FE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86E7D-EE9B-4405-A8C3-B32C457F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DCC55-7CB5-41AD-9850-1383F894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62814-36A1-4E54-A708-84864269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7A122-A885-46AD-8B4F-38C790FA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B449E-F627-4DE0-BDB4-36B335A0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8FA7A-E4C0-48CD-8276-2BA2A288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283EA-9411-4D4C-BFF7-2EABE5FD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03396-AEE9-4070-A3B3-F4DC3093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8673D-8549-444A-B947-475C2267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BB2A4-1703-4F66-87D6-C7B9C4EB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452-AAB2-465E-86DA-4F833EA5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96CC2-2DD4-4A3F-B3AF-943CAA81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D7451-23A9-47C3-860B-6F97B311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69D33-594E-4B83-9EAC-0DDA59E3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705E6-E0E0-480B-9DBE-657C643D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3FE2B-65DD-4041-A118-C3977B59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024B2-DC4A-4520-BD8D-35F61C34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2CC86-AB83-45DB-959E-AC765B9E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193A7-2BB4-4915-9B39-E5EFA22D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F92BD-112C-4F9D-A43A-565AB2D4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A794A-0D9A-4D39-9764-79FBC895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cambiar el estilo de título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1B1B82-2DDC-41AD-B324-E9636A789D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body"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 type="sldNum" idx="30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47478A-A798-499D-8EF4-5292D9826E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noFill/>
          </a:ln>
        </p:spPr>
        <p:txBody>
          <a:bodyPr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EE678C-2850-47C0-A856-35EA86A3B0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400" cy="585144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25560">
            <a:noFill/>
          </a:ln>
        </p:spPr>
        <p:txBody>
          <a:bodyPr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BF63BA-6EDB-4564-B1C7-E71FA0983B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title"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8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9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A52671-CBEC-44D7-9FEB-229CC23A24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ftr" idx="41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sldNum" idx="42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433CC7-720C-42D7-BFA1-78E62FC10B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title"/>
          </p:nvPr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title"/>
          </p:nvPr>
        </p:nvSpPr>
        <p:spPr>
          <a:xfrm>
            <a:off x="4648320" y="3938760"/>
            <a:ext cx="4038480" cy="21877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dt" idx="43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ftr" idx="44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 type="sldNum" idx="45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D31EF2-1F21-40D6-9072-EF4755B1F5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title"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dt" idx="46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47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48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5BE55B-41E3-41EF-A545-5C066D7278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49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50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C7DE17-C956-404A-859D-9D34BF369D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831F9B-2BF5-4DAB-9238-409874AC2C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01DF89-3D7E-4FE6-AFA2-264D19E73B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000" spc="-1" strike="noStrike" cap="all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rmAutofit/>
          </a:bodyPr>
          <a:p>
            <a:pPr marL="432000" indent="-324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04DEE2-9B19-4A8C-AF40-FCA6C86E69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»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title"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»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C4EE24-0AD3-431E-B932-7412F5C4DD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rmAutofit fontScale="74000"/>
          </a:bodyPr>
          <a:p>
            <a:pPr marL="3196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title"/>
          </p:nvPr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»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100000"/>
              </a:lnSpc>
              <a:spcBef>
                <a:spcPts val="601"/>
              </a:spcBef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title"/>
          </p:nvPr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»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8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DCB308-2EB6-413F-B5D6-4EFF1D70D0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FE747C-D3CB-45CB-A134-06E6976692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0EB152-029A-42D6-98C0-F995A35590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2556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6"/>
          </p:nvPr>
        </p:nvSpPr>
        <p:spPr>
          <a:xfrm>
            <a:off x="3124080" y="6245280"/>
            <a:ext cx="2895480" cy="476280"/>
          </a:xfrm>
          <a:prstGeom prst="rect">
            <a:avLst/>
          </a:prstGeom>
          <a:noFill/>
          <a:ln w="25560">
            <a:noFill/>
          </a:ln>
        </p:spPr>
        <p:txBody>
          <a:bodyPr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7"/>
          </p:nvPr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FD57E8-A5F2-4DC8-B937-EAE5C06765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80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0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0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846920" cy="4176720"/>
          </a:xfrm>
          <a:prstGeom prst="rect">
            <a:avLst/>
          </a:prstGeom>
          <a:solidFill>
            <a:srgbClr val="bbe0e3"/>
          </a:solidFill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TEMA 6. LA REPRODUCCION Y LA NUTRICIÓN CELU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3 CuadroTexto"/>
          <p:cNvSpPr txBox="1"/>
          <p:nvPr/>
        </p:nvSpPr>
        <p:spPr>
          <a:xfrm>
            <a:off x="179640" y="188640"/>
            <a:ext cx="878508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4.2 MITOSIS: ETAPAS 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finición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de división celular por el cual a partir de una célula madre se obtienen 2 células hijas con el mismo número y tipo de cromos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inalidad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tener células hijas con idéntica información genética que la célula mad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sultado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partir de una célula diploide (2n) se obtengan dos células diploides o que a partir de una haploide (n) se obtengan dos haplo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mportancia biológica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odos los organismos vivos utilizan la división celular, bien como mecanismo de reproducción, o como mecanismo de crecimiento del individ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 Los seres unicelulares: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ara la reproducción y perpetuación de la especie, manteniendo el número cromosómico y la identidad genética de la especie.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Reproducción asexu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 En organismos pluricelulares: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ara el crecimiento y desarrollo, sustitución de células muertas, regeneración de partes perdidas o destruidas y producir nuevas células germinales para la re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1 CuadroTexto"/>
          <p:cNvSpPr txBox="1"/>
          <p:nvPr/>
        </p:nvSpPr>
        <p:spPr>
          <a:xfrm>
            <a:off x="467640" y="908640"/>
            <a:ext cx="8137080" cy="541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MITOSIS O CARIOC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ndensación cromosomas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cilita el repa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rma huso mitótico o acromático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el movimiento de los cromosomas. Hay dos tipos de microtúbulos: polares (van de un polo al otro del huso) y cinetocóricos ( van del cinetocoro a un polo del hus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En células animal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hay una mitosis astral (hay centriolos y material pericentriolar que organizan el hus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En células vegetal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hay una mitosis anastral ( no hay centriolos y el centro organizador de microtúbulos es una zona del citoplasma llamada cl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TA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86800" cy="47628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0" y="0"/>
            <a:ext cx="2699640" cy="68580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ienza al hacerse visibles los cromosomas. Acontecimie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orma de huso mitótico. Migración de los centrosomas hacia los polos. Se forman las fibras polares, en vegetales se forma a partir de la zona cl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densación de cromosomas. Formación de cinetocoros y filamentos cinetocó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saparece la membrana nuclear y el nucleo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5" descr="mitosis2"/>
          <p:cNvPicPr/>
          <p:nvPr/>
        </p:nvPicPr>
        <p:blipFill>
          <a:blip r:embed="rId1"/>
          <a:stretch/>
        </p:blipFill>
        <p:spPr>
          <a:xfrm>
            <a:off x="2700360" y="692280"/>
            <a:ext cx="6443640" cy="583236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859880" cy="34596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ETA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2771640" cy="60930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ximo grado de condensación de los cromos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ación completa de huso acrom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romosomas en plano ecuatorial empujados por microtúbulos cinetocó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ntrómeros perpendiculares a los centrí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cariotip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5" descr="metafase_bis"/>
          <p:cNvPicPr/>
          <p:nvPr/>
        </p:nvPicPr>
        <p:blipFill>
          <a:blip r:embed="rId1"/>
          <a:stretch/>
        </p:blipFill>
        <p:spPr>
          <a:xfrm>
            <a:off x="2916360" y="765000"/>
            <a:ext cx="5977080" cy="575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851520" cy="54936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NA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2916360" cy="61657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romátidas se sepa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 arrastradas por los microtúbulos cinetocóricos, que se acor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alargan los microtúbulos polares, separando más los centrosomas hacia los p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rmina cuando llegan las cromátidas a los p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anafase_bis"/>
          <p:cNvPicPr/>
          <p:nvPr/>
        </p:nvPicPr>
        <p:blipFill>
          <a:blip r:embed="rId1"/>
          <a:stretch/>
        </p:blipFill>
        <p:spPr>
          <a:xfrm>
            <a:off x="2916360" y="692280"/>
            <a:ext cx="6048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ELO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00320" cy="21585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como una profase in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cromosomas se desconden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parecen los nucle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aparecen los microtúbu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parecen las membranas nucle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telofase_bis"/>
          <p:cNvPicPr/>
          <p:nvPr/>
        </p:nvPicPr>
        <p:blipFill>
          <a:blip r:embed="rId1"/>
          <a:stretch/>
        </p:blipFill>
        <p:spPr>
          <a:xfrm>
            <a:off x="1823040" y="2029320"/>
            <a:ext cx="1300320" cy="13003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5" descr="telophase1_b_meiosis"/>
          <p:cNvPicPr/>
          <p:nvPr/>
        </p:nvPicPr>
        <p:blipFill>
          <a:blip r:embed="rId2"/>
          <a:stretch/>
        </p:blipFill>
        <p:spPr>
          <a:xfrm>
            <a:off x="3188520" y="2029320"/>
            <a:ext cx="1300320" cy="130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7"/>
          <p:cNvPicPr/>
          <p:nvPr/>
        </p:nvPicPr>
        <p:blipFill>
          <a:blip r:embed="rId1"/>
          <a:stretch/>
        </p:blipFill>
        <p:spPr>
          <a:xfrm>
            <a:off x="4427640" y="620640"/>
            <a:ext cx="4248000" cy="5562720"/>
          </a:xfrm>
          <a:prstGeom prst="rect">
            <a:avLst/>
          </a:prstGeom>
          <a:ln w="25560">
            <a:noFill/>
          </a:ln>
        </p:spPr>
      </p:pic>
      <p:pic>
        <p:nvPicPr>
          <p:cNvPr id="750" name="Picture 3" descr="7"/>
          <p:cNvPicPr/>
          <p:nvPr/>
        </p:nvPicPr>
        <p:blipFill>
          <a:blip r:embed="rId2"/>
          <a:stretch/>
        </p:blipFill>
        <p:spPr>
          <a:xfrm>
            <a:off x="900000" y="765000"/>
            <a:ext cx="3067200" cy="5362560"/>
          </a:xfrm>
          <a:prstGeom prst="rect">
            <a:avLst/>
          </a:prstGeom>
          <a:ln w="25560">
            <a:noFill/>
          </a:ln>
        </p:spPr>
      </p:pic>
      <p:sp>
        <p:nvSpPr>
          <p:cNvPr id="751" name="Text Box 4"/>
          <p:cNvSpPr txBox="1"/>
          <p:nvPr/>
        </p:nvSpPr>
        <p:spPr>
          <a:xfrm>
            <a:off x="1692360" y="189000"/>
            <a:ext cx="5904000" cy="519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ASES DE LA 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7664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4.3 CITOCI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548640"/>
            <a:ext cx="8435160" cy="63093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enza en anafase y consiste en el reparto de los componentes que se han duplicado en interfase en las dos células h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la separación de citoplasmas para dar las dos células h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erente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élulas anima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or estrangu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nillo contráctil en placa ecuatorial: actina y mios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orma surco de seg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élulas vegeta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formación placa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A. Golgi forma vesículas (polisacáridos), van a la zona ecua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usionan y dan lugar a una estructura, placa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extremos placa crecen, se fusionan con la membrana plasmática, separación de las dos células hi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capa de polisacáridos (lámina media), después cada célula depositará celulosa entre la lámina media y m. 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http://www.geocities.ws/batxillerat_biologia/ciclec3.jpg"/>
          <p:cNvPicPr/>
          <p:nvPr/>
        </p:nvPicPr>
        <p:blipFill>
          <a:blip r:embed="rId1"/>
          <a:stretch/>
        </p:blipFill>
        <p:spPr>
          <a:xfrm>
            <a:off x="251640" y="260640"/>
            <a:ext cx="8641080" cy="3528360"/>
          </a:xfrm>
          <a:prstGeom prst="rect">
            <a:avLst/>
          </a:prstGeom>
          <a:ln w="25560">
            <a:noFill/>
          </a:ln>
        </p:spPr>
      </p:pic>
      <p:pic>
        <p:nvPicPr>
          <p:cNvPr id="755" name="Picture 4" descr="http://biogeo.iespedrojimenezmontoya.es/BIOLOGIAJM/CICLO%20CELULAR/IMAGENES/CITVEG.JPG"/>
          <p:cNvPicPr/>
          <p:nvPr/>
        </p:nvPicPr>
        <p:blipFill>
          <a:blip r:embed="rId2"/>
          <a:stretch/>
        </p:blipFill>
        <p:spPr>
          <a:xfrm>
            <a:off x="0" y="3789000"/>
            <a:ext cx="8953560" cy="306900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6800"/>
          </a:xfrm>
          <a:prstGeom prst="rect">
            <a:avLst/>
          </a:prstGeom>
          <a:solidFill>
            <a:srgbClr val="ffffff"/>
          </a:solidFill>
          <a:ln w="25560">
            <a:noFill/>
          </a:ln>
        </p:spPr>
        <p:txBody>
          <a:bodyPr anchor="t" anchorCtr="1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4.4 LA MEIOSIS: ETAPAS E IMPORTANCIA B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solidFill>
            <a:srgbClr val="bbe0e3"/>
          </a:solidFill>
          <a:ln w="25560">
            <a:noFill/>
          </a:ln>
        </p:spPr>
        <p:txBody>
          <a:bodyPr anchor="t" anchorCtr="1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4. FUNCIÓN DE REP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 txBox="1"/>
          <p:nvPr/>
        </p:nvSpPr>
        <p:spPr>
          <a:xfrm>
            <a:off x="179280" y="0"/>
            <a:ext cx="4032360" cy="689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finición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 un proceso divisional celular, en el cuál una célula diploide (2n), experimentará dos divisiones celulares sucesivas, con la capacidad de generar cuatro células haploides (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Consist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 dos divisione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ecu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"/>
              <a:buChar char="-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erfase premeiótica: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"/>
              <a:buChar char="-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iosis I (Reduccion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"/>
              <a:buChar char="-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erfase meiótica: corta y sin duplicación del A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"/>
              <a:buChar char="-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iosis II (Como una mitosis normal pero con la mitad de cromosomas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3" descr="meiosis-big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 txBox="1"/>
          <p:nvPr/>
        </p:nvSpPr>
        <p:spPr>
          <a:xfrm>
            <a:off x="250920" y="189000"/>
            <a:ext cx="8497800" cy="28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urante l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iosis I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miembros de cada par homólogo de cromosomas se unen primero y luego se separan y se distribuyen en diferentes núcleos. En l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iosis I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las cromátidas hermanas que forman cada cromosoma se separan y se distribuyen en los núcleos de las células hijas. Entre estas dos etapas sucesivas no existe la etapa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3" descr="meiosis"/>
          <p:cNvPicPr/>
          <p:nvPr/>
        </p:nvPicPr>
        <p:blipFill>
          <a:blip r:embed="rId1"/>
          <a:stretch/>
        </p:blipFill>
        <p:spPr>
          <a:xfrm>
            <a:off x="684360" y="2781360"/>
            <a:ext cx="8064360" cy="370836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FAS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cromosomas homólogos se aparean y hay intercambio de material genético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eri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EPTO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cromosomas se hacen vis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da cromosoma contiene 2 cromátidas (pero aún no se distingu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IGO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mparejamientos de cromosomas homólogos por el complejo sinaptoné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 estructura de dos cromosomas con un total de cuatro cromátidas: TÉTRADA o BIVAL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inapsis, puntos donde se entrecru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AQUI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 produce el sobrecruz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tercambio de material genético entre cromosomas homólo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secuencia: recombinación génica. Se observan las tétradas o bival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s cromátidas que han intercambiado fragmentos permanecen unidas por l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quiasm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IPLO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mienza la separación de los cromosomas homólo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ermanecen unidos por puntos denominados QUIAS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IAC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 forma el huso acrom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saparece la membrana nuclear  y nucle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romosomas se condensan 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4" descr="entrecruzamiento-celula-nivel-blogspot-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2" descr="7"/>
          <p:cNvPicPr/>
          <p:nvPr/>
        </p:nvPicPr>
        <p:blipFill>
          <a:blip r:embed="rId1"/>
          <a:stretch/>
        </p:blipFill>
        <p:spPr>
          <a:xfrm>
            <a:off x="179280" y="404640"/>
            <a:ext cx="8543880" cy="6453360"/>
          </a:xfrm>
          <a:prstGeom prst="rect">
            <a:avLst/>
          </a:prstGeom>
          <a:ln w="25560">
            <a:noFill/>
          </a:ln>
        </p:spPr>
      </p:pic>
      <p:sp>
        <p:nvSpPr>
          <p:cNvPr id="764" name="Text Box 3"/>
          <p:cNvSpPr txBox="1"/>
          <p:nvPr/>
        </p:nvSpPr>
        <p:spPr>
          <a:xfrm>
            <a:off x="2411280" y="0"/>
            <a:ext cx="4824360" cy="3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ERIODOS DE LA PROFAS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AFAS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3" descr="Diapositiva13"/>
          <p:cNvPicPr/>
          <p:nvPr/>
        </p:nvPicPr>
        <p:blipFill>
          <a:blip r:embed="rId1"/>
          <a:stretch/>
        </p:blipFill>
        <p:spPr>
          <a:xfrm>
            <a:off x="324000" y="692280"/>
            <a:ext cx="882000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FAS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Diapositiva14"/>
          <p:cNvPicPr/>
          <p:nvPr/>
        </p:nvPicPr>
        <p:blipFill>
          <a:blip r:embed="rId1"/>
          <a:stretch/>
        </p:blipFill>
        <p:spPr>
          <a:xfrm>
            <a:off x="324000" y="907920"/>
            <a:ext cx="856944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LOFAS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3" descr="Diapositiva15"/>
          <p:cNvPicPr/>
          <p:nvPr/>
        </p:nvPicPr>
        <p:blipFill>
          <a:blip r:embed="rId1"/>
          <a:stretch/>
        </p:blipFill>
        <p:spPr>
          <a:xfrm>
            <a:off x="0" y="836640"/>
            <a:ext cx="889308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Diapositiva5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2" descr="Diapositiva17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1 CuadroTexto"/>
          <p:cNvSpPr txBox="1"/>
          <p:nvPr/>
        </p:nvSpPr>
        <p:spPr>
          <a:xfrm>
            <a:off x="826920" y="836640"/>
            <a:ext cx="77770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visión cel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ntenido célula madre se reparte a las células hijas, el ADN se tiene antes que dupli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ivisión en procariota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partición o división simple. Replica el ADN, se une a la membrana, invagina la membrana y segmenta la cél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2" descr="https://sites.google.com/site/256divisioncelular/_/rsrc/1288273977094/division-en-procariotas/fision_binaria%20618x307.JPG"/>
          <p:cNvPicPr/>
          <p:nvPr/>
        </p:nvPicPr>
        <p:blipFill>
          <a:blip r:embed="rId1"/>
          <a:stretch/>
        </p:blipFill>
        <p:spPr>
          <a:xfrm>
            <a:off x="1187280" y="1989000"/>
            <a:ext cx="5886360" cy="2808360"/>
          </a:xfrm>
          <a:prstGeom prst="rect">
            <a:avLst/>
          </a:prstGeom>
          <a:ln w="25560">
            <a:noFill/>
          </a:ln>
        </p:spPr>
      </p:pic>
      <p:sp>
        <p:nvSpPr>
          <p:cNvPr id="718" name="3 CuadroTexto"/>
          <p:cNvSpPr txBox="1"/>
          <p:nvPr/>
        </p:nvSpPr>
        <p:spPr>
          <a:xfrm>
            <a:off x="1116000" y="4797360"/>
            <a:ext cx="720108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ivisión en eucariot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hay dos tip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arenR"/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ivisión celular mitó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curre en células somá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Mitosis o cariocinesis: división del núcleo, finalidad que los cromosomas se reparten equita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Citocinesis: división citoplas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eio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curre en células germinales, da lugar a los gametos. Su finalidad posibilitar la reproducción celula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2" descr="7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335640"/>
          </a:xfrm>
          <a:prstGeom prst="rect">
            <a:avLst/>
          </a:prstGeom>
          <a:ln w="25560">
            <a:noFill/>
          </a:ln>
        </p:spPr>
      </p:pic>
      <p:sp>
        <p:nvSpPr>
          <p:cNvPr id="774" name="Text Box 3"/>
          <p:cNvSpPr txBox="1"/>
          <p:nvPr/>
        </p:nvSpPr>
        <p:spPr>
          <a:xfrm>
            <a:off x="1619280" y="0"/>
            <a:ext cx="4465800" cy="396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TAPAS DE LA 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3 CuadroTexto"/>
          <p:cNvSpPr txBox="1"/>
          <p:nvPr/>
        </p:nvSpPr>
        <p:spPr>
          <a:xfrm>
            <a:off x="0" y="0"/>
            <a:ext cx="914400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MPORTANCIA DE LA ME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imprescindible en la reproducción sexual; gametos haploides (por meiosis), unión de los gametos (forman el zigoto), desarrollo del individ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antenimiento del número de cromosomas de la especie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gametos la mitad de cromosomas, al unirse se restaura el número de cromosomas de la espe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umenta la  variabilidad genética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bido al entrecruzamiento y recombinación genética. Segregación y distribución al azar de los cromosomas en los gametos. Unión al azar de un gameto masculino y femen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la reproducción asexual, la mitosis, los descendientes iguales, su fuente de variación son las mu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la reproducción sexual, la variabilidad genética son las mutaciones, entrecruzamiento y recombinación genética y la segregación al azar. Por eso el significado biológico de la reproducción sexual es aumentar la  variabilidad genética que es la base de la evol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25560">
            <a:noFill/>
          </a:ln>
        </p:spPr>
      </p:pic>
      <p:sp>
        <p:nvSpPr>
          <p:cNvPr id="777" name="Text Box 3"/>
          <p:cNvSpPr txBox="1"/>
          <p:nvPr/>
        </p:nvSpPr>
        <p:spPr>
          <a:xfrm>
            <a:off x="2590920" y="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ITOSIS Y MEI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"/>
          <p:cNvSpPr txBox="1"/>
          <p:nvPr/>
        </p:nvSpPr>
        <p:spPr>
          <a:xfrm>
            <a:off x="3451320" y="1865160"/>
            <a:ext cx="10461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tafas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"/>
          <p:cNvSpPr txBox="1"/>
          <p:nvPr/>
        </p:nvSpPr>
        <p:spPr>
          <a:xfrm>
            <a:off x="4251240" y="3440160"/>
            <a:ext cx="975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afas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6"/>
          <p:cNvSpPr txBox="1"/>
          <p:nvPr/>
        </p:nvSpPr>
        <p:spPr>
          <a:xfrm>
            <a:off x="5483160" y="3859200"/>
            <a:ext cx="10965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taf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7"/>
          <p:cNvSpPr txBox="1"/>
          <p:nvPr/>
        </p:nvSpPr>
        <p:spPr>
          <a:xfrm>
            <a:off x="6473880" y="4164120"/>
            <a:ext cx="10263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af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8"/>
          <p:cNvSpPr txBox="1"/>
          <p:nvPr/>
        </p:nvSpPr>
        <p:spPr>
          <a:xfrm>
            <a:off x="2295360" y="3652920"/>
            <a:ext cx="1690920" cy="3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Recombin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romosomas homólog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9"/>
          <p:cNvSpPr txBox="1"/>
          <p:nvPr/>
        </p:nvSpPr>
        <p:spPr>
          <a:xfrm>
            <a:off x="2473200" y="1814400"/>
            <a:ext cx="9381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fas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1 CuadroTexto"/>
          <p:cNvSpPr txBox="1"/>
          <p:nvPr/>
        </p:nvSpPr>
        <p:spPr>
          <a:xfrm>
            <a:off x="539640" y="2133000"/>
            <a:ext cx="8064720" cy="18774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5. FUNCIÓN DE NUTRI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1 CuadroTexto"/>
          <p:cNvSpPr txBox="1"/>
          <p:nvPr/>
        </p:nvSpPr>
        <p:spPr>
          <a:xfrm>
            <a:off x="323640" y="548640"/>
            <a:ext cx="83530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5.1 CONCEPTO DE NUTRICIÓN.NUTRICIÓN AUTÓTROFA Y HETERÓTRO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ncepto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ceso por el que la célula toma materia y energía del exterior y las transforma para renovar estructuras celulares y obtener energía para realizar los diferentes trabajos cel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ipos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gún la fuente de carbono, hay dos 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eterótrofa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ecesitan materia orgánica, por lo que se nutren de moléculas inorgánicas y orgánicas (glúcidos, lípidos y proteínas). Se da en animales, hongos y algunas bacte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utótrofa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nutren de materia inorgánica sin contenido energético (CO2, O2, agua y sales), porque sintetizan su propia materia orgánica a partir de la inorgánica. Según la fuente de energía hay dos 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lphaLcParenR"/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tosintéticas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btienen la energía de la luz solar, transformándola en energía química(ATP). Son los  fotosintéticos o fototrofos. Se da en vegetales y bacterias fotosinté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lphaLcParenR"/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Quimiosintéticas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btienen energía de las reacciones de oxidorreducción. Son los quimiosintéticos o quimiotrofos. Se da en bacte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1 CuadroTexto"/>
          <p:cNvSpPr txBox="1"/>
          <p:nvPr/>
        </p:nvSpPr>
        <p:spPr>
          <a:xfrm>
            <a:off x="611640" y="476640"/>
            <a:ext cx="806472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5.2 IN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cesos de incorporación de sustancias a la célula a través de la membrana 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5.2.1 INTERCAMBIO DE MOLÉCULAS PEQUEÑAS. PERMEABILIDAD CELULAR: DIFUSIÓN Y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3 Imagen" descr=""/>
          <p:cNvPicPr/>
          <p:nvPr/>
        </p:nvPicPr>
        <p:blipFill>
          <a:blip r:embed="rId1"/>
          <a:stretch/>
        </p:blipFill>
        <p:spPr>
          <a:xfrm>
            <a:off x="756000" y="2273760"/>
            <a:ext cx="7918560" cy="410868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3"/>
          <p:cNvSpPr txBox="1"/>
          <p:nvPr/>
        </p:nvSpPr>
        <p:spPr>
          <a:xfrm>
            <a:off x="0" y="115920"/>
            <a:ext cx="9036000" cy="37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. Transporte pasiv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n gasto de energía y a favor de concentr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Hay dos tip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- Difusión simple: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aso de moléculas a través de la membrana sin intervención de proteínas. Ejemplos: O2, CO2, urea y etanol. En el caso del agua es la ósmo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- Difusión facilitada: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a membrana es impermeable a sustancias hidrosolubles (iones, glucosa, aas,…), su transporte es facilitado por proteínas de transporte, que forman canales. Tip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) Proteínas canal: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orman canales acuosos siempre abiertos. Pasan los iones positivos para mantener el potencial de membrana (negativo en el interior respecto al exterio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b) Proteínas transportadoras específicas o permeasas: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 unen a la molécula que es transportada. Pasan los nucleótidos, aas, glucosa, monosacáridos…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ienen estas proteínas dos conformaciones: pong (centros de unión libres hacia el exterior) y ping (hacia el interio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http://1.bp.blogspot.com/_TYKXEPKoytc/S_V3cm5r7uI/AAAAAAAADyM/89LidfQwXU8/s1600/F2.jpg"/>
          <p:cNvPicPr/>
          <p:nvPr/>
        </p:nvPicPr>
        <p:blipFill>
          <a:blip r:embed="rId1"/>
          <a:stretch/>
        </p:blipFill>
        <p:spPr>
          <a:xfrm>
            <a:off x="539640" y="3933000"/>
            <a:ext cx="8137080" cy="292500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" descr="6"/>
          <p:cNvPicPr/>
          <p:nvPr/>
        </p:nvPicPr>
        <p:blipFill>
          <a:blip r:embed="rId1"/>
          <a:stretch/>
        </p:blipFill>
        <p:spPr>
          <a:xfrm>
            <a:off x="0" y="1917000"/>
            <a:ext cx="9144000" cy="4941000"/>
          </a:xfrm>
          <a:prstGeom prst="rect">
            <a:avLst/>
          </a:prstGeom>
          <a:ln w="25560">
            <a:noFill/>
          </a:ln>
        </p:spPr>
      </p:pic>
      <p:sp>
        <p:nvSpPr>
          <p:cNvPr id="791" name="Text Box 3"/>
          <p:cNvSpPr txBox="1"/>
          <p:nvPr/>
        </p:nvSpPr>
        <p:spPr>
          <a:xfrm>
            <a:off x="324000" y="0"/>
            <a:ext cx="8280720" cy="17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9"/>
              </a:spcBef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Transporte activo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gasto energético (ATP) y en contra de gradiente electroquí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 realizan proteínas (bombas) cuyo cambio de conformación necesita ATP. Un ejemplo es la bomba de Na-K, por cada ATP bombea 3 Na+ al exterior y 2 K+ al interior, así se crea una diferencia de potencial eléctrico en la membrana, el interior – con respecto al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POS DE TRANSP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2" descr="http://www.asturnatura.com/articulos/envoltura-celular/membrana-plasmatica-transporte.jpg"/>
          <p:cNvPicPr/>
          <p:nvPr/>
        </p:nvPicPr>
        <p:blipFill>
          <a:blip r:embed="rId1"/>
          <a:stretch/>
        </p:blipFill>
        <p:spPr>
          <a:xfrm>
            <a:off x="827640" y="1628640"/>
            <a:ext cx="7416720" cy="446436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6"/>
          <p:cNvPicPr/>
          <p:nvPr/>
        </p:nvPicPr>
        <p:blipFill>
          <a:blip r:embed="rId1"/>
          <a:stretch/>
        </p:blipFill>
        <p:spPr>
          <a:xfrm>
            <a:off x="5076000" y="1124640"/>
            <a:ext cx="4068000" cy="5544360"/>
          </a:xfrm>
          <a:prstGeom prst="rect">
            <a:avLst/>
          </a:prstGeom>
          <a:ln w="25560">
            <a:noFill/>
          </a:ln>
        </p:spPr>
      </p:pic>
      <p:sp>
        <p:nvSpPr>
          <p:cNvPr id="795" name="Text Box 3"/>
          <p:cNvSpPr txBox="1"/>
          <p:nvPr/>
        </p:nvSpPr>
        <p:spPr>
          <a:xfrm>
            <a:off x="0" y="0"/>
            <a:ext cx="5004000" cy="67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5.2.2 INTERCAMBIO DE MOLÉCULAS GRANDES. ENDOCITOSIS Y EXOC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StarSymbol"/>
              <a:buAutoNum type="alphaUcPeriod"/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DOC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ceso por el cuál la célula incorpora moléculas de gran tamaño y partículas sólidas. Consiste en que una porción de la membrana plasmática envuelve al material que queda encerrado en una vesícula o vacuola endocítica, que puede ser de dos tip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 Fagocitosis: ingestión de partículas sólidas de gran tamaño (bacterias, restos celulares), la vacuola se llama fagosoma, se une al lisosoma primario. En organismos pluricelulares, lo hacen los macrófagos y en protozoos su forma habitual de alim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Pinocitosis: ingestión de líquido extracelular y pequeñas partículas por invaginaciones de la membrana. La vacuola se llama vacuola pinocítica, se une al lisosoma prim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" descr="7"/>
          <p:cNvPicPr/>
          <p:nvPr/>
        </p:nvPicPr>
        <p:blipFill>
          <a:blip r:embed="rId1"/>
          <a:stretch/>
        </p:blipFill>
        <p:spPr>
          <a:xfrm>
            <a:off x="4427640" y="836640"/>
            <a:ext cx="4716360" cy="4968720"/>
          </a:xfrm>
          <a:prstGeom prst="rect">
            <a:avLst/>
          </a:prstGeom>
          <a:ln w="25560">
            <a:noFill/>
          </a:ln>
        </p:spPr>
      </p:pic>
      <p:sp>
        <p:nvSpPr>
          <p:cNvPr id="720" name="Text Box 3"/>
          <p:cNvSpPr txBox="1"/>
          <p:nvPr/>
        </p:nvSpPr>
        <p:spPr>
          <a:xfrm>
            <a:off x="1835280" y="0"/>
            <a:ext cx="5977080" cy="519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4.1 EL CICLO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3 CuadroTexto"/>
          <p:cNvSpPr txBox="1"/>
          <p:nvPr/>
        </p:nvSpPr>
        <p:spPr>
          <a:xfrm>
            <a:off x="324000" y="692280"/>
            <a:ext cx="410364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a secuencia regular y repetitiva de crecimiento y división por la que pasan las células eucariotas. Peri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fas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divid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G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rece la célula en tamaño, aumenta el número de biomoléculas y orgán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uplicación del ADN, síntesis de proteínas y se inicia la duplicación centrio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finaliza duplicación centriolos, inicia condensación cromatina, sintetizan proteínas esenciales para la di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  División cel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 divid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Mito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paran los juegos cromosóm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Citocine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 divide el citoplas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1 CuadroTexto"/>
          <p:cNvSpPr txBox="1"/>
          <p:nvPr/>
        </p:nvSpPr>
        <p:spPr>
          <a:xfrm>
            <a:off x="683640" y="836640"/>
            <a:ext cx="8064720" cy="156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. EXOC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cesos por los cuales la célula elimina al exterior moléculas de gran tamaño. Se engloban en vesículas que van a la superficie celular, se unen a la membrana plasmática y el contenido de la vesícula va al espacio extracelular. Se eliminan residuos de la digestión intracelular, restos de orgánulos degradado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http://4.bp.blogspot.com/-MbmtfXUmkQg/VU5nzaYnlVI/AAAAAAAApuw/j1Z3S7yMeV8/s640/Exocitosis.jpg"/>
          <p:cNvPicPr/>
          <p:nvPr/>
        </p:nvPicPr>
        <p:blipFill>
          <a:blip r:embed="rId1"/>
          <a:stretch/>
        </p:blipFill>
        <p:spPr>
          <a:xfrm>
            <a:off x="683640" y="2493000"/>
            <a:ext cx="7488720" cy="436500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1 CuadroTexto"/>
          <p:cNvSpPr txBox="1"/>
          <p:nvPr/>
        </p:nvSpPr>
        <p:spPr>
          <a:xfrm>
            <a:off x="179640" y="188640"/>
            <a:ext cx="8785080" cy="68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5.3 DIGESTIÓN CELULAR. ORGÁNULOS IMPL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 llevada acabo por los lisosomas (vesículas membranosas con enzimas hidrolíticas capaces de digerir macromoléculas), son los basureros del mundo celular, 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Lisosomas primarios: son los recién fabricados en el Aparato de Golgi, sólo tienen enz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isosomas secundarios: tienen enzimas y sustancias en vías de di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ipos de digestión cel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Extracelular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or exocitosis. Se liberan enzimas al medio y la digestión ocurre fuera de la cél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ntracelular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)  Material exógeno: nutrición y defensa frente a microorganismos. Al proceso se llama heterofagia: entra a la célula partículas sólidas por endocitosis. Fusión con un lisosoma primario (vacuola heterofágica). Digestión; los productos los aprovecha la célula, el resto los expulsa o forman un cuerpo resid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) Material endógeno: recambio de componentes celulares y nutrición en ayunas. Al proceso se llama autofagia: los orgánulos viejos se rodean de membrana del REL. Se fusiona con un lisosoma primario, vacuola autofágica. Digest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5.4 EXOCITOSIS Y SECRECIÓN CELULAR (Ya vis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tretch/>
        </p:blipFill>
        <p:spPr>
          <a:xfrm>
            <a:off x="395640" y="476640"/>
            <a:ext cx="8425080" cy="597672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"/>
              <a:buChar char="-"/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 comenzar la división, la cromatina se condensa, hasta alcanzar su máximo desarrollo en metafase. En esta fase, el cromosoma adquiere su máximo grado de empaquetamiento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Partes de un cromoso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00320" cy="215856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ENTRÓM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vide al cromosoma en braz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tiene heterocroma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inetocor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 punto inserción microtúbu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ROMÁTIDAS HERMA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visión longitud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Genéticamente igu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ermanecen unidas por el centróm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ELÓMER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asco o parte final de los cromoso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otege información útil durante la duplicación, le da estabilidad e integr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ATÉLI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donde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Unido al extremo del cromoso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STRICCIONES SECUNDARI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delgazamientos en un braz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Zonas N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 está cerca del telómero, origina satél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4" descr="2-Estructura-cromosoma"/>
          <p:cNvPicPr/>
          <p:nvPr/>
        </p:nvPicPr>
        <p:blipFill>
          <a:blip r:embed="rId1"/>
          <a:stretch/>
        </p:blipFill>
        <p:spPr>
          <a:xfrm>
            <a:off x="1823040" y="2350080"/>
            <a:ext cx="1300320" cy="65844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7"/>
          <p:cNvSpPr/>
          <p:nvPr/>
        </p:nvSpPr>
        <p:spPr>
          <a:xfrm>
            <a:off x="395280" y="0"/>
            <a:ext cx="8424720" cy="39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. ESTRUCTURA Y PARTES DE UN  CROMOSOMA METAFÁ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8" descr="Diapositiva11"/>
          <p:cNvPicPr/>
          <p:nvPr/>
        </p:nvPicPr>
        <p:blipFill>
          <a:blip r:embed="rId2"/>
          <a:stretch/>
        </p:blipFill>
        <p:spPr>
          <a:xfrm>
            <a:off x="3188520" y="2192040"/>
            <a:ext cx="1300320" cy="97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B. NÚMERO DE CROMOSO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435880" cy="4997520"/>
          </a:xfrm>
          <a:prstGeom prst="rect">
            <a:avLst/>
          </a:prstGeom>
          <a:noFill/>
          <a:ln w="2556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número de cromosomas de una nueva especie es constante, las células de un individuo pueden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ploides (2n). Dos juegos de cromosomas (en parejas de homólogos, mismo tamaño, forma y genes). En células somáticas. Ser humano 2n = 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ploides. Un solo juego de cromosomas.  (n) Diferentes entre sí, no hay homólogos. Gametos. Ser humano n=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POS DE CROMOSOM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Según la posición del centrómer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7" descr="CROMOSOMAS TIPOS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2061000"/>
          </a:xfrm>
          <a:prstGeom prst="rect">
            <a:avLst/>
          </a:prstGeom>
          <a:noFill/>
          <a:ln w="2556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. CARIOTIPO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rdenamiento de los cromosomas de una célula en metafase según su tamaño, número, posición del centrómero, longitud de brazos…Es característico de cada especie. En organismos superiores hay dos tipos: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UTOSOMAS: Comunes a los dos sexo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ROMOSOMAS SEXUALES: Determinan el sexo. Especie humana el X e Y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 Cariotipo de mujeres: 44 autosomas + XX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 Cariotipo de hombres: 44 autosomas + X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ideochrm"/>
          <p:cNvPicPr/>
          <p:nvPr/>
        </p:nvPicPr>
        <p:blipFill>
          <a:blip r:embed="rId1"/>
          <a:stretch/>
        </p:blipFill>
        <p:spPr>
          <a:xfrm>
            <a:off x="0" y="2277000"/>
            <a:ext cx="9144000" cy="4581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  <Words>2359</Words>
  <Paragraphs>18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8:19:21Z</dcterms:created>
  <dc:creator>arantxa</dc:creator>
  <dc:description/>
  <dc:language>en-US</dc:language>
  <cp:lastModifiedBy>Centor</cp:lastModifiedBy>
  <dcterms:modified xsi:type="dcterms:W3CDTF">2016-01-03T18:10:48Z</dcterms:modified>
  <cp:revision>63</cp:revision>
  <dc:subject/>
  <dc:title>Diapositiva 1</dc:title>
</cp:coreProperties>
</file>